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6ED-4819-421D-87E5-2C3EB7AB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EB6-4012-4FF8-AF89-4A9DDEC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B7E-EE51-4A59-9A35-BD701FCF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370-F15E-42FB-871F-0345237C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D37-BA35-4715-A2EC-B791E25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C37-E8A9-42EB-8B4A-E26FE717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A4C-A5B3-4EC0-BACA-09D76B6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CD2-5974-4D23-924F-FDA365E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541-922D-4934-AD80-2C96DF5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248-B21A-4D56-A39D-415A2CE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48F-D84B-4E68-8EE9-0E78304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74C-24C1-4867-9C68-722D254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70A4-4831-45C9-ACF2-D1F064F875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4200" y="2428920"/>
            <a:ext cx="87156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ТРАУМАТОЛОГИЈ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У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МАКСИЛОФАЦИЈАЛНОЈ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РЕГ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7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4"/>
          <a:stretch/>
        </p:blipFill>
        <p:spPr>
          <a:xfrm>
            <a:off x="8058240" y="3882960"/>
            <a:ext cx="730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357200"/>
            <a:ext cx="5533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а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прот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ољ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емогућ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619600" y="1628640"/>
            <a:ext cx="34340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и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ограф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619280" y="4149720"/>
            <a:ext cx="59529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1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1920" y="1600200"/>
            <a:ext cx="53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о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 вилиц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му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мфиз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500800" y="1928880"/>
            <a:ext cx="3429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ДИ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лов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ктури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ut mandib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lum mandib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рект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укас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ps-39-291-g007-l"/>
          <p:cNvPicPr/>
          <p:nvPr/>
        </p:nvPicPr>
        <p:blipFill>
          <a:blip r:embed="rId2"/>
          <a:stretch/>
        </p:blipFill>
        <p:spPr>
          <a:xfrm>
            <a:off x="1428840" y="4597560"/>
            <a:ext cx="61405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5400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ДИ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еа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преч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ку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до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малн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ућ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уш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в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н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про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фи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гулу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pterygoideus laterali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уксацио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ход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ап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а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уш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с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га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М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0920" y="16286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иза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хо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шти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ж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аос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туп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ц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рек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ГУЛ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4400" y="1267920"/>
            <a:ext cx="78552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т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фигур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ктор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и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пактир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њ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71680" y="4000680"/>
            <a:ext cx="3929040" cy="26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643280" y="4049640"/>
            <a:ext cx="3753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ГУЛ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268280"/>
            <a:ext cx="536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и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812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ЕЛ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05228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sr-Latn-RS" sz="1900" spc="-1" strike="noStrike">
                <a:solidFill>
                  <a:srgbClr val="000000"/>
                </a:solidFill>
                <a:latin typeface="Arial"/>
              </a:rPr>
              <a:t>orpus mandibula</a:t>
            </a:r>
            <a:r>
              <a:rPr b="0" i="1" lang="sr-CS" sz="19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авије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врс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мпак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јчврш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јашњ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инеарн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супро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окализација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шестру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помену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матра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творен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ро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ериодонтал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по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ези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дљив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ги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ступач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већин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арактеристични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2evans_01ab"/>
          <p:cNvPicPr/>
          <p:nvPr/>
        </p:nvPicPr>
        <p:blipFill>
          <a:blip r:embed="rId2"/>
          <a:stretch/>
        </p:blipFill>
        <p:spPr>
          <a:xfrm>
            <a:off x="2340000" y="4581360"/>
            <a:ext cx="4402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МФИ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1357200"/>
            <a:ext cx="5643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поређ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ркан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але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г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чај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физ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едств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5973840" y="1844640"/>
            <a:ext cx="31399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520" y="331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0012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истур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њ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с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љ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ви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траум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њ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-10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mage029"/>
          <p:cNvPicPr/>
          <p:nvPr/>
        </p:nvPicPr>
        <p:blipFill>
          <a:blip r:embed="rId2"/>
          <a:stretch/>
        </p:blipFill>
        <p:spPr>
          <a:xfrm>
            <a:off x="5143680" y="2071800"/>
            <a:ext cx="37144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60" y="-36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ШЕСТРУК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остру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ра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е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дол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нта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ијо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ЕЗУБИ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живо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клеротичн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клон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ст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убљењ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тпу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сорп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зраже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троф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ам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куп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зраже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бљи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овилич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рпу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менз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ич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ловк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вакв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абије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игид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безуб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ећ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плин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трофич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ребе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мању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тиц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ускулатур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ракт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зерв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ЗЕРВ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Archbars_Inter-Maxillary_Fixation-741x558"/>
          <p:cNvPicPr/>
          <p:nvPr/>
        </p:nvPicPr>
        <p:blipFill>
          <a:blip r:embed="rId2"/>
          <a:stretch/>
        </p:blipFill>
        <p:spPr>
          <a:xfrm>
            <a:off x="4643280" y="3071880"/>
            <a:ext cx="4023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тход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широ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јапазо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оматолош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рурш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упа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премањ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ђено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к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так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ђени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таљни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скључи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грожен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тал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рдинирањ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дохра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стовреме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авез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шти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филакс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марн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рад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143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беж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пул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ћ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и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одвој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авез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ход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ерватив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рш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уе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љешт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м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стено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мер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ељ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ерва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довољава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бичај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1271089-1283150-848tn"/>
          <p:cNvPicPr/>
          <p:nvPr/>
        </p:nvPicPr>
        <p:blipFill>
          <a:blip r:embed="rId2"/>
          <a:stretch/>
        </p:blipFill>
        <p:spPr>
          <a:xfrm>
            <a:off x="1042920" y="4653000"/>
            <a:ext cx="3457800" cy="194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ANd9GcS3k54XxFOucHRvKjNzqrQuOI7xkMzzWF7wS1dNkhtz-6wcjdC3"/>
          <p:cNvPicPr/>
          <p:nvPr/>
        </p:nvPicPr>
        <p:blipFill>
          <a:blip r:embed="rId3"/>
          <a:stretch/>
        </p:blipFill>
        <p:spPr>
          <a:xfrm>
            <a:off x="4716360" y="4653000"/>
            <a:ext cx="3456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мобилиза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28556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став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еут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уп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р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116000" y="4292640"/>
            <a:ext cx="73436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ато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рес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фикс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гестив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кт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мобилиза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6430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нов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обилизацио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пу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уматиз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ингив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аби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виђ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хран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б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вр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ти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9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вољ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лтифрагментар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уб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ек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рурш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ози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обилиза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осе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ксацијо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ча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рафов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очиц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30v54n03-90231933fig6"/>
          <p:cNvPicPr/>
          <p:nvPr/>
        </p:nvPicPr>
        <p:blipFill>
          <a:blip r:embed="rId2"/>
          <a:stretch/>
        </p:blipFill>
        <p:spPr>
          <a:xfrm>
            <a:off x="1214280" y="4357800"/>
            <a:ext cx="295128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qXPCFEyMK10D5JKSWv3HXXHUlYQuWNBXZzuLIC2w-ExjCu1--"/>
          <p:cNvPicPr/>
          <p:nvPr/>
        </p:nvPicPr>
        <p:blipFill>
          <a:blip r:embed="rId3"/>
          <a:stretch/>
        </p:blipFill>
        <p:spPr>
          <a:xfrm>
            <a:off x="4714920" y="4357800"/>
            <a:ext cx="289548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1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. Избећи битне неуроваскуларне структур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Направити онолико дугу инцизију колико треб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Планирати инцизију у линији минималне тензиј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Планирати инцизију у естетски прихватљивим зонам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 Потражити друга прихватљива места за инцизију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узмем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т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у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р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ећо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цени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јашњ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пулсивношћ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ло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шавањ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ТРАОРАЛНИ ПРИСТУП 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ZZZZZZ"/>
          <p:cNvPicPr/>
          <p:nvPr/>
        </p:nvPicPr>
        <p:blipFill>
          <a:blip r:embed="rId2"/>
          <a:stretch/>
        </p:blipFill>
        <p:spPr>
          <a:xfrm>
            <a:off x="471600" y="1139760"/>
            <a:ext cx="4975200" cy="555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PPPPPPP"/>
          <p:cNvPicPr/>
          <p:nvPr/>
        </p:nvPicPr>
        <p:blipFill>
          <a:blip r:embed="rId3"/>
          <a:stretch/>
        </p:blipFill>
        <p:spPr>
          <a:xfrm>
            <a:off x="5819760" y="3157560"/>
            <a:ext cx="2881440" cy="341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HHHH"/>
          <p:cNvPicPr/>
          <p:nvPr/>
        </p:nvPicPr>
        <p:blipFill>
          <a:blip r:embed="rId4"/>
          <a:stretch/>
        </p:blipFill>
        <p:spPr>
          <a:xfrm>
            <a:off x="6359400" y="1251000"/>
            <a:ext cx="1801800" cy="1985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32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360" y="112536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СУБМАНДИБУЛАР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 - </a:t>
            </a:r>
            <a:r>
              <a:rPr b="1" i="1" lang="sr-Latn-CS" sz="2000" spc="-1" strike="noStrike">
                <a:solidFill>
                  <a:srgbClr val="002060"/>
                </a:solidFill>
                <a:latin typeface="Arial"/>
              </a:rPr>
              <a:t>,,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RISDON</a:t>
            </a:r>
            <a:r>
              <a:rPr b="1" i="1" lang="sr-Latn-CS" sz="2000" spc="-1" strike="noStrike">
                <a:solidFill>
                  <a:srgbClr val="00206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РЕТРОМАНДИБУЛА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ЕКСТРАОРАЛ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ИСТУП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КОНДИЛАРНОМ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НАСТАВ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ЕАУРИКУЛАР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ИСТУП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p-156"/>
          <p:cNvPicPr/>
          <p:nvPr/>
        </p:nvPicPr>
        <p:blipFill>
          <a:blip r:embed="rId2"/>
          <a:srcRect l="0" t="0" r="1701" b="4644"/>
          <a:stretch/>
        </p:blipFill>
        <p:spPr>
          <a:xfrm>
            <a:off x="142920" y="2714760"/>
            <a:ext cx="3857760" cy="3714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FACKOO"/>
          <p:cNvPicPr/>
          <p:nvPr/>
        </p:nvPicPr>
        <p:blipFill>
          <a:blip r:embed="rId3"/>
          <a:stretch/>
        </p:blipFill>
        <p:spPr>
          <a:xfrm>
            <a:off x="4788000" y="2743200"/>
            <a:ext cx="396072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26820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ZGGHCCVNVGHFFC CFTZ"/>
          <p:cNvPicPr/>
          <p:nvPr/>
        </p:nvPicPr>
        <p:blipFill>
          <a:blip r:embed="rId2"/>
          <a:stretch/>
        </p:blipFill>
        <p:spPr>
          <a:xfrm>
            <a:off x="108000" y="1432080"/>
            <a:ext cx="5129280" cy="466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-161"/>
          <p:cNvPicPr/>
          <p:nvPr/>
        </p:nvPicPr>
        <p:blipFill>
          <a:blip r:embed="rId3"/>
          <a:stretch/>
        </p:blipFill>
        <p:spPr>
          <a:xfrm>
            <a:off x="5572080" y="1071720"/>
            <a:ext cx="3468600" cy="543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FRAAAAAAAAAAAAA"/>
          <p:cNvPicPr/>
          <p:nvPr/>
        </p:nvPicPr>
        <p:blipFill>
          <a:blip r:embed="rId2"/>
          <a:stretch/>
        </p:blipFill>
        <p:spPr>
          <a:xfrm>
            <a:off x="108000" y="4143240"/>
            <a:ext cx="5105520" cy="23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FRAAA"/>
          <p:cNvPicPr/>
          <p:nvPr/>
        </p:nvPicPr>
        <p:blipFill>
          <a:blip r:embed="rId3"/>
          <a:stretch/>
        </p:blipFill>
        <p:spPr>
          <a:xfrm>
            <a:off x="611280" y="1428840"/>
            <a:ext cx="4105080" cy="233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-164"/>
          <p:cNvPicPr/>
          <p:nvPr/>
        </p:nvPicPr>
        <p:blipFill>
          <a:blip r:embed="rId4"/>
          <a:stretch/>
        </p:blipFill>
        <p:spPr>
          <a:xfrm>
            <a:off x="5286240" y="1428840"/>
            <a:ext cx="36561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7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ј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ч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обраћај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рећа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ст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сед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ећ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тикато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ајај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ерг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massete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. temporalis)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уч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ни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МПТОМАТОЛОГ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454356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ел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игу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урн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ур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ућ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drfx2pre"/>
          <p:cNvPicPr/>
          <p:nvPr/>
        </p:nvPicPr>
        <p:blipFill>
          <a:blip r:embed="rId2"/>
          <a:stretch/>
        </p:blipFill>
        <p:spPr>
          <a:xfrm>
            <a:off x="5486400" y="1357200"/>
            <a:ext cx="22860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article-image-1919-FIGURE_2_DEEP_WOUND_IN_THE_LEFT_PARASYMPHYSIS_REGI"/>
          <p:cNvPicPr/>
          <p:nvPr/>
        </p:nvPicPr>
        <p:blipFill>
          <a:blip r:embed="rId3"/>
          <a:stretch/>
        </p:blipFill>
        <p:spPr>
          <a:xfrm>
            <a:off x="5486400" y="4429080"/>
            <a:ext cx="23335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ЕСИГУР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 LA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САЛИВ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TOR EX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Ipicturemandibularfracture"/>
          <p:cNvPicPr/>
          <p:nvPr/>
        </p:nvPicPr>
        <p:blipFill>
          <a:blip r:embed="rId2"/>
          <a:stretch/>
        </p:blipFill>
        <p:spPr>
          <a:xfrm>
            <a:off x="5334120" y="1600200"/>
            <a:ext cx="2819160" cy="21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a2"/>
          <p:cNvPicPr/>
          <p:nvPr/>
        </p:nvPicPr>
        <p:blipFill>
          <a:blip r:embed="rId3"/>
          <a:stretch/>
        </p:blipFill>
        <p:spPr>
          <a:xfrm>
            <a:off x="518148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728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ГУР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214280"/>
            <a:ext cx="822960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DSC00471"/>
          <p:cNvPicPr/>
          <p:nvPr/>
        </p:nvPicPr>
        <p:blipFill>
          <a:blip r:embed="rId2"/>
          <a:stretch/>
        </p:blipFill>
        <p:spPr>
          <a:xfrm>
            <a:off x="4500720" y="32148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drfx2pre"/>
          <p:cNvPicPr/>
          <p:nvPr/>
        </p:nvPicPr>
        <p:blipFill>
          <a:blip r:embed="rId3"/>
          <a:stretch/>
        </p:blipFill>
        <p:spPr>
          <a:xfrm>
            <a:off x="762120" y="285768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а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рект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даљен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ндирект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варањ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стају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дностру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остру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струк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минутив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521000"/>
            <a:ext cx="485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азме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инск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в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раћењ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ци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islocatio ad l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islocatio ad axim)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large_ss074"/>
          <p:cNvPicPr/>
          <p:nvPr/>
        </p:nvPicPr>
        <p:blipFill>
          <a:blip r:embed="rId2"/>
          <a:stretch/>
        </p:blipFill>
        <p:spPr>
          <a:xfrm>
            <a:off x="5364000" y="1341360"/>
            <a:ext cx="36576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3:18:37Z</dcterms:modified>
  <cp:revision>750</cp:revision>
  <dc:subject/>
  <dc:title>Diapositiva 1</dc:title>
</cp:coreProperties>
</file>